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FBA-422E-4E7D-9B5F-8A82C5DF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8D5-70E4-4186-9C45-5C2E02DB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92D-7139-44AB-9007-489662EE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E3F-B98D-4741-8313-E3B89126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7D36-B3B3-494C-AF23-C59F6495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2F48-3E41-4A71-827D-B4C3D28D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F12A-27CF-4D55-B2FB-900AD637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932D-0B61-4779-827A-6524ED47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0DA0-9D2C-402F-94CF-2326E35D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7160-932D-4ABF-A547-B332BC17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CE7E-B68B-4577-A5A6-E350E21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478-5D2E-4B25-A16B-96CF1661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4F9E-3241-41C6-8278-83844787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B5D0-F764-4ADA-802A-96EF6761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ED3E-FA03-470F-8B11-E8EB85CA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6249-C9C6-4B1A-A803-4FA2574F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4B44-E8CA-45D7-AAB0-90CFADEB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617-7E67-4431-81F2-E7840E9C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178-CEB6-4236-9A8C-9C1D3086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069-B17E-45D5-A3D4-00D9F1B3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AC5-9341-482E-800A-9472A3AA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1D6-03A0-48A2-9E02-5A79292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C7D-E301-4881-A34D-2ACDC6A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EDE-F1EB-4D43-AAAE-D4AD4B2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B944-9C76-42DE-803E-F7EF6CC95F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91D8-C63A-407F-A6EC-0E451357D4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dbbd71"/>
                </a:solidFill>
                <a:latin typeface="Arial"/>
              </a:rPr>
              <a:t>BENJAMIN FRANKLI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LIFE AND INVENTIONS OF A GREAT M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1496880" cy="1841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209520" cy="432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914400" cy="112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YOUNG LIF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On January 17, 1706, in Boston,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osiah Franklin and Abiah Folger had their tenth son, Benjamin Frankl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 all Benjamin would have 9 brothers and 7 sis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Josiah wanted Benjamin to enter the clergy but could only afford for him to go to school for one ye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YOUNG LIFE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en he was young he loved to read which got him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pprenticed to his brother James who was a pri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fter Benjamin helped make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mphlets he would go and sell them out on the street at the age of 12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RUN TO FREEDOM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n 1723 Benjamin got repeated harassment from his brother after being let out of prison and he could not tak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e took a boat to New York trying to find a job as a printer but could 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e walked across New Jersey finally arriving i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hiladelphia via boat r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e found work as a printer and he did so well that the governor of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nnsylvania promised to set him up a business for himself if young Franklin would just go to London to buy fonts and printing equip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anklin did go to London, but the governor reneged on his promise and Benjamin was forced to spend several months in England doing print wor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06:bo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17:invents a pair of swim fins for his h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22:became a vegetaria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35:brother James d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39:house robb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45:father d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78:signs France alli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90:april 17 d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THE NATIONAL MEMORIAL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Benjamin Franklin national memorial is located in the rotunda of the Franklin institute of science museum in Philadelphia, pennsyvania.inside the hall is a 20 foot high white marble statue which sits on a 92-ton pedestal of white serevezza mar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BIBLIOGRAHP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eaps of thanks 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n.wikipedi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Ushistory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mages.google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BY LOG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28840" cy="1576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45964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353280" y="3137040"/>
            <a:ext cx="2790720" cy="3720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0" y="4365720"/>
            <a:ext cx="1687680" cy="2492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484360" y="5702400"/>
            <a:ext cx="259740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78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3584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9:56:53Z</dcterms:created>
  <dc:creator>dhs</dc:creator>
  <dc:description/>
  <dc:language>en-US</dc:language>
  <cp:lastModifiedBy>dhs</cp:lastModifiedBy>
  <dcterms:modified xsi:type="dcterms:W3CDTF">2009-11-03T20:51:10Z</dcterms:modified>
  <cp:revision>9</cp:revision>
  <dc:subject/>
  <dc:title>BENJAMIN FRANKLIN</dc:title>
</cp:coreProperties>
</file>